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9600-793D-44E4-9399-F5737BD0B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EA2A-FDCE-4BDA-BED3-D7AF43931F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9279-95C0-495F-A324-18D4AF53EF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3F0-0665-4F07-A56B-11A54710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BA3-37E5-459C-957C-BCB7AB61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812-25E6-4950-ABD0-A0DEE313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AED-0EA8-4716-BA73-41246C2F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10F9D-722D-4562-B894-D3D4E233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80017-CC04-494C-B05F-D2271D8D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33090-1E1F-430A-B18D-13610C93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7AF23-5448-4DD0-80D0-0FA92A10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EFB78-9FAB-4E73-BCE4-977FA15E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4E865-B057-4AB3-87B2-1A2E325A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815FD-1500-495D-9118-B5DD2208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06B-03B3-4CE2-BA11-0206C5C2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F5909-20A7-48C8-99A5-9460E2BC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EB0D7-DD25-4D7C-B0F6-298B37B3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7FAF7-4E8C-4EAD-8D07-124D9092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7D705-785D-479D-BDF5-DF8DC1B9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E1090-FC74-48A3-A7BE-A579979E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C7B-D023-4A86-98F1-12790910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3AF-C59A-4A8E-ABB8-1E365A9F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005-24EE-4C99-9161-8473849B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7A8-6A14-4206-A92F-C0654E98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D39-EAC8-4ED6-917A-A33CC702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C9D-AEEB-4718-A0AA-8402CDD8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BFDE-B5E0-4CA5-BF45-73772230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D978-6701-41F3-847C-70A41C648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4EAA-0522-4F3B-8E6E-DB825F54FE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ickiblackwell.com/timer.html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hyperlink" Target="http://www.scottsboro.org/~flewis/SF%20Reading%20Street/Hot%20Potatoes/Henry_&amp;_Mudge.htm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196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5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What can we discover by exploring nature?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13" descr="Henry &amp; Mudg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24080" y="1371600"/>
            <a:ext cx="309888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9051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galax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gal – ax -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galax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huge group of stars.  Earth and the sun are part of a big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a clear night you can see a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galax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st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sts say there are lots of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galax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sides the one we are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ranqui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tran - qu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Tranqu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how you feel when you are very calm and peacefu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ing at the stars makes me feel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tranqu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arm summer night seems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tranqu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wildlif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wild -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s and plants that live wild outdoors are called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wild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kinds of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wild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aw many kinds of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wild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we went cam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nsonant Ble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819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b 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w 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tr u 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pr 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tr 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220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gr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flu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tam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tri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cru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Making Word</a:t>
            </a:r>
            <a:br>
              <a:rPr sz="4400"/>
            </a:b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 Letter Ti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28600" y="17524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b - c - d -  f - l - m - n - p - r - s -  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rd Rea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81120" y="1600200"/>
            <a:ext cx="2590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1905120"/>
          <a:ext cx="3200400" cy="4190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917960" y="1905120"/>
          <a:ext cx="3311640" cy="4190760"/>
        </p:xfrm>
        <a:graphic>
          <a:graphicData uri="http://schemas.openxmlformats.org/drawingml/2006/table">
            <a:tbl>
              <a:tblPr/>
              <a:tblGrid>
                <a:gridCol w="331164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et’s Talk About </a:t>
            </a:r>
            <a:br>
              <a:rPr sz="5400"/>
            </a:br>
            <a:r>
              <a:rPr b="0" lang="en-US" sz="5400" spc="-1" strike="noStrike">
                <a:solidFill>
                  <a:srgbClr val="00ffcc"/>
                </a:solidFill>
                <a:latin typeface="Arial"/>
              </a:rPr>
              <a:t>Exploration!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aracter and Set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s are the people or animals in st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 describe their characters.  They tell what the characters look like, how they act, and how they think.  They also tell about the setting, or where the story takes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ing about characters and setting can help a reader better understand a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mall Group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Tim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Read Aloud 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a Little Pat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 saw a bird’s nesst in a tre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We saw a bird’s nest in a tre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nt on a camping tri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We went on a camping trip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redicates  tell what the subject of the sentence d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iked up a moun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hiked up a mount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il was h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il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was h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limbed up and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climbed up and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dad helped me a litt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dad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helped me a lit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iew at the top was gr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iew at the top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was gre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njoyed that h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enjoyed that hik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dad carried a backp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dad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carried a backpa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gave me a sn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gave me a sn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 activities that mak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feel tranquil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4" name="Picture 20" descr="Henry &amp; Mudge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410080"/>
            <a:ext cx="838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a boy and his dog who explore nature on a camping trip.  What do people do when they camp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a boy and his dog who explore nature on a camping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What do people do when they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cam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nant ble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 and sett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and fix up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,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9051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underneat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un – der - n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put a book under your chair, you can say the book is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underne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r ch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ocks are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underne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y pajamas in the top dra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y lunchbox, I have an apple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underne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y sandwi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828800"/>
          <a:ext cx="3657600" cy="426708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2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ive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ol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ter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uggl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800600" y="1828800"/>
          <a:ext cx="3657600" cy="4191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qu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dlif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nea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cin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m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dentif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i -  dent- i- 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mething, you tell what i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ags on a dog’s collar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dog’s ow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ut my name on my lunchbox to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detec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de – tec - 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det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person who tries to solve a mystery or figure out a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a word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det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you figure out what a word me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ice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det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igures out who is responsible for a cr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Consonant Blends: 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Find the words in “Nature’s Creatures” that have consonant blends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76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r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fl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r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bluebi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creec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g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roa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fro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nak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tretch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14600" y="1752480"/>
          <a:ext cx="4114800" cy="41022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2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n’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5"/>
          <p:cNvSpPr/>
          <p:nvPr/>
        </p:nvSpPr>
        <p:spPr>
          <a:xfrm>
            <a:off x="609588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sonant Blend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top to ask about the st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s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out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eeze blew the nest into the str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breez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ble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n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o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tre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win put on the mas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tw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ut on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mas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aracter and Set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s are the people or animals in st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 describe their characters.  They tell what the characters look like, how they act, and how they think.  They also tell about the setting, or where the story takes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ing about characters and setting can help a reader better understand a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nitor and Fix U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you may have questions while you are rea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is happens, you should keep reading to see if you discover the answ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yourself questions as you read so you will understand what you are rea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76360" y="1600200"/>
            <a:ext cx="2895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1905120"/>
          <a:ext cx="3200400" cy="4190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917960" y="1905120"/>
          <a:ext cx="3311640" cy="4190760"/>
        </p:xfrm>
        <a:graphic>
          <a:graphicData uri="http://schemas.openxmlformats.org/drawingml/2006/table">
            <a:tbl>
              <a:tblPr/>
              <a:tblGrid>
                <a:gridCol w="331164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br>
              <a:rPr sz="4000"/>
            </a:b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Jigword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8600" y="1905120"/>
          <a:ext cx="8686800" cy="327636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ivered – shook with fe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oled – let saliva run from the mouth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terns – lights inside containers that can be carri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uggled – cuddled togeth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y friend and I slept in my backyard, I got so cold I 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y friend and I slept in my backyard, I got so cold I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hive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____ with my dog Ben to keep wa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nugg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my dog Ben to keep wa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____ on me, but I didn’t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droo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me, but I didn’t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glad we both had ____ so it wasn’t so d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glad we both had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lanter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it wasn’t so d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nice breez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A nice breeze fanned our fac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y dad and 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My dad and I went hik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redicates  tell what the subject of the sentence d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and Mudge went cam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and Mudg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went cam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i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irl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rides her bi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wo bo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wo boys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play cat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what you migh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and feel while campin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side overnight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0" name="Picture 17" descr="Henry &amp; Mudge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410080"/>
            <a:ext cx="838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many things to learn about the forest.   Some animals and plants look different close-up and far away.  What else can we discover by exploring nature in the fores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many things to learn about the forest.   Some animals and plants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look different close-up and far away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What else can we discover by exploring nature in the fores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vowels CV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 with consonant ble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,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9051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8880" y="990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ig Question:</a:t>
            </a:r>
            <a:br>
              <a:rPr sz="4000"/>
            </a:b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What can we discover by exploring nature?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fascin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fas – ci – nat - 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hat is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fascin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very interest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ad about a girl who found insects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fascin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read a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fascin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ok about eleph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slim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slim -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sli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els slippery and gooey when you touch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eople think snakes feel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sli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ut they really don’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ud at the bottom of the river felt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sli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my f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Making Word</a:t>
            </a:r>
            <a:br>
              <a:rPr sz="4400"/>
            </a:b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 Letter Ti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f - l - m - n - 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Hot Potatoes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36196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b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bu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could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tra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 are the high frequency words in each sente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mother and father took me camp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mot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ok me cam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afraid we would see a b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afraid we would see a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be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hat are the high frequency words in each sent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ouldn’t believe that my mom could build a f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could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lieve that my mom could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bui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f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ent straight home after we cam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ent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ra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me after we cam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Vocabulary:  Synonym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Which vocabulary words means the same as the underlined word?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He </a:t>
            </a: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</a:rPr>
              <a:t>shook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 and put an arm around Mud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Henry unpacked the food and pans and </a:t>
            </a: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</a:rPr>
              <a:t>lights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Henry’s father and mother </a:t>
            </a: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</a:rPr>
              <a:t>cuddled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stap on my backpac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The strap on my backpack brok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t stem of wat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That stream of water was col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br>
              <a:rPr sz="4000"/>
            </a:br>
            <a:br>
              <a:rPr sz="2400"/>
            </a:b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Predicates  tell what the subject of the sentence did.</a:t>
            </a: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ay I found a baby bird on the sidewal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ay I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found a baby bird on the sidewal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looked up and saw the bird’s nest in a tr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looked up and saw the bird’s nest in a tr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by must have fallen out of the n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by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must have fallen out of the n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synonyms in pairs of sentences about going camping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8" name="Picture 14" descr="Henry &amp; Mudge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153280" y="5410080"/>
            <a:ext cx="8384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00200" y="2133720"/>
          <a:ext cx="6095880" cy="3895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9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can learn about animals everywhere in the world.  We can learn how stars move in the sky.  What else can we discover by exploring natur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5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stars make pictures in the sky?  You can see some star pictures during autumn and some others before the fall seaso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stars make pictures in the sky?  You can see some star pictures during </a:t>
                      </a:r>
                      <a:r>
                        <a:rPr b="1" lang="en-US" sz="2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autum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d some others before the </a:t>
                      </a:r>
                      <a:r>
                        <a:rPr b="1" lang="en-US" sz="2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fall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aso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rap on the backpack broke and books went everyw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as brave enough to live and work in the wide open We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hines help dump and spread piles of ro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bake bread for our sn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nd was strong enough to make the kite m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se woman just went on a trip around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en’s bik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Jen’s bike had a flat tir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he and ji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She and Jim walked hom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br>
              <a:rPr sz="2400"/>
            </a:b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Predicates  tell what the subject of the sentence did.</a:t>
            </a: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m and Jen liked to ride their bik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m and Jen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liked to ride their bik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anted to explore n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wanted to explore na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rode their bikes to the pa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rode their bikes to the pa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of them looked for living th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of them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looked for living th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ound trees, insects, and bi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found trees, insects, and bir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e a Good Speak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speaker does several things as he or she is in a classroom discu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 slowly and carefu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 or sit up stra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se your hand and ask to spea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 loudly enough to be he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tur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 wildlife in a park o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backyard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2" name="Picture 13" descr="Henry &amp; Mudge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410080"/>
            <a:ext cx="838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week we read about exploring nature.  Henry and Mudge found wildlife and a galaxy of stars.  If they looked underneath rocks, could they identify fascinating insects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nant ble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eek’s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,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s of a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838080" y="1828800"/>
          <a:ext cx="3657600" cy="426708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2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ive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ol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ter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uggl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800600" y="1828800"/>
          <a:ext cx="3657600" cy="4191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qu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dlif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nea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cin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m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600200" y="2133720"/>
          <a:ext cx="6095880" cy="3895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9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can learn about animals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everywher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the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l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We can learn how stars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mov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the sky.  What else can we discover by exploring natur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9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14600" y="1752480"/>
          <a:ext cx="4114800" cy="41022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n’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Rectangle 9"/>
          <p:cNvSpPr/>
          <p:nvPr/>
        </p:nvSpPr>
        <p:spPr>
          <a:xfrm>
            <a:off x="609588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38080" y="1905120"/>
          <a:ext cx="3200400" cy="4190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917960" y="1905120"/>
          <a:ext cx="3311640" cy="4190760"/>
        </p:xfrm>
        <a:graphic>
          <a:graphicData uri="http://schemas.openxmlformats.org/drawingml/2006/table">
            <a:tbl>
              <a:tblPr/>
              <a:tblGrid>
                <a:gridCol w="331164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Consonant Blends </a:t>
            </a:r>
            <a:br>
              <a:rPr sz="4000"/>
            </a:br>
            <a:r>
              <a:rPr b="1" lang="en-US" sz="2000" spc="-1" strike="noStrike">
                <a:solidFill>
                  <a:srgbClr val="e3e3ff"/>
                </a:solidFill>
                <a:latin typeface="Arial"/>
              </a:rPr>
              <a:t>Choose the words in each sentence that have consonant blends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en frog is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r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lip on the stone st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li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e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fly to the state of Flor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th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lorid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tree is the last one we will pl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tr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la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e we will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pl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____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____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_____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____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_____ bake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_____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____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nry and Mudg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Henry and Mudge went camp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cooking does Henry’s moth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Henry’s mother does the cook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33cccc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need to locate information about something in a book, you can use parts of the book to help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table of cont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find out what the book is about.  It shows the chapters in the book and what page they start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nd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sts topics in alphabetical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glossa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lls you the meanings of words in the boo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nant ble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 and setting,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o find topics in the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5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s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o find topics in the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04920" y="1600200"/>
          <a:ext cx="8381880" cy="434016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s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ac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o find topics in the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04920" y="1600200"/>
          <a:ext cx="8381880" cy="451152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s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ac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o find topics in the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 of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view Gam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cabulary &amp; Amazing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ig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lling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ia G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lling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 Frequency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Potatoes (fill-in-the-bla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 are now ready to take our story tests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# 9046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travelin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ough the galaxy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9" name="Picture 13" descr="Henry &amp; Mudge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153280" y="5410080"/>
            <a:ext cx="8384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09:12:05Z</dcterms:modified>
  <cp:revision>20</cp:revision>
  <dc:subject/>
  <dc:title>Slide 1</dc:title>
</cp:coreProperties>
</file>